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8D6D-A94A-4488-898D-089FEE75F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12B0-A073-4C21-9CC7-D297975B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BAE5-28D9-4D5C-AD4D-078B56C43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DDA0-EFC5-4A80-A1D8-0D7D3EC6C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4883-CE0C-4882-8002-D6E655DB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8293-DD74-403B-8922-0C174693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BA23-BDE9-4300-AB43-A78CA353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EF38-520B-4B48-824E-36BDFF41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A23D-ABD1-4842-A04A-6A04CB9E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792D-DE8F-4858-95ED-1C1529CB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2C7B-6D20-421F-B179-718A4DCE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4AB7-DF30-4656-A90E-A80227CE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C8C1-6C91-495B-AA93-5CC5515259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Blake 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3029760" y="1676520"/>
            <a:ext cx="27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A Greek city-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http://farm4.static.flickr.com/3500/3234068659_b21cbe0dd4.jpg"/>
          <p:cNvPicPr/>
          <p:nvPr/>
        </p:nvPicPr>
        <p:blipFill>
          <a:blip r:embed="rId1"/>
          <a:stretch/>
        </p:blipFill>
        <p:spPr>
          <a:xfrm>
            <a:off x="1295280" y="2286000"/>
            <a:ext cx="6181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2933280" y="1828800"/>
            <a:ext cx="28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A study of wisd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http://t3.gstatic.com/images?q=tbn:ANd9GcRnoxO7rPpZ-WcFw7y5xcgV__LxWKjaIgdAsyHFnOnj6r5zwG5GXfxzqLm9"/>
          <p:cNvPicPr/>
          <p:nvPr/>
        </p:nvPicPr>
        <p:blipFill>
          <a:blip r:embed="rId1"/>
          <a:stretch/>
        </p:blipFill>
        <p:spPr>
          <a:xfrm>
            <a:off x="1066680" y="2666880"/>
            <a:ext cx="678204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2851560" y="1523880"/>
            <a:ext cx="323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Area of land by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ttp://www.crystalinks.com/greekcities.jpg"/>
          <p:cNvPicPr/>
          <p:nvPr/>
        </p:nvPicPr>
        <p:blipFill>
          <a:blip r:embed="rId1"/>
          <a:stretch/>
        </p:blipFill>
        <p:spPr>
          <a:xfrm>
            <a:off x="1523880" y="2084400"/>
            <a:ext cx="601992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2171880" y="1676520"/>
            <a:ext cx="48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War between Athens and Spa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"/>
              </a:rPr>
              <a:t>A large hill which the Greeks built their city-states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http://www.greek-islands.us/athens/parthenon/parthenon.jpg"/>
          <p:cNvPicPr/>
          <p:nvPr/>
        </p:nvPicPr>
        <p:blipFill>
          <a:blip r:embed="rId1"/>
          <a:stretch/>
        </p:blipFill>
        <p:spPr>
          <a:xfrm>
            <a:off x="533520" y="1828800"/>
            <a:ext cx="80769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A place where Greeks meet for busi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http://0.tqn.com/d/atheism/1/0/0/L/AthAgora-l.jpg"/>
          <p:cNvPicPr/>
          <p:nvPr/>
        </p:nvPicPr>
        <p:blipFill>
          <a:blip r:embed="rId1"/>
          <a:stretch/>
        </p:blipFill>
        <p:spPr>
          <a:xfrm>
            <a:off x="1371600" y="1828800"/>
            <a:ext cx="632448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3048120" y="152388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A lawmaking place where people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http://www.sandiegohistory.org/collections/lomaland/images/op12305-9.jpg"/>
          <p:cNvPicPr/>
          <p:nvPr/>
        </p:nvPicPr>
        <p:blipFill>
          <a:blip r:embed="rId1"/>
          <a:stretch/>
        </p:blipFill>
        <p:spPr>
          <a:xfrm>
            <a:off x="1600200" y="2514600"/>
            <a:ext cx="613404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http://t1.gstatic.com/images?q=tbn:ANd9GcS1tvhL56dl08PEuH4rUvRKwW0nma8NXVFX9i1v-KHIUS-KXFaMJBo84YFy"/>
          <p:cNvPicPr/>
          <p:nvPr/>
        </p:nvPicPr>
        <p:blipFill>
          <a:blip r:embed="rId1"/>
          <a:stretch/>
        </p:blipFill>
        <p:spPr>
          <a:xfrm>
            <a:off x="2438280" y="1979640"/>
            <a:ext cx="3762360" cy="48783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2023200" y="1447920"/>
            <a:ext cx="54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A person who has certain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990720" y="15238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A group of people  who lived apart from Greek  but have same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http://upload.wikimedia.org/wikipedia/commons/a/a0/Marseilles_Greek_colony_323_BCE.jpg"/>
          <p:cNvPicPr/>
          <p:nvPr/>
        </p:nvPicPr>
        <p:blipFill>
          <a:blip r:embed="rId1"/>
          <a:stretch/>
        </p:blipFill>
        <p:spPr>
          <a:xfrm>
            <a:off x="1828800" y="2359080"/>
            <a:ext cx="548640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http://greece.mrdonn.org/athens1.gif"/>
          <p:cNvPicPr/>
          <p:nvPr/>
        </p:nvPicPr>
        <p:blipFill>
          <a:blip r:embed="rId1"/>
          <a:stretch/>
        </p:blipFill>
        <p:spPr>
          <a:xfrm>
            <a:off x="1752480" y="2743200"/>
            <a:ext cx="5953320" cy="315108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2413800" y="1676520"/>
            <a:ext cx="44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A form of government to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http://ec.europa.eu/environment/awards/images/jury_2010_product.jpg"/>
          <p:cNvPicPr/>
          <p:nvPr/>
        </p:nvPicPr>
        <p:blipFill>
          <a:blip r:embed="rId1"/>
          <a:stretch/>
        </p:blipFill>
        <p:spPr>
          <a:xfrm>
            <a:off x="1676520" y="2895480"/>
            <a:ext cx="5715000" cy="321012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3411000" y="1676520"/>
            <a:ext cx="44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To hear evident to make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2438280" y="182880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Gov. headed by one 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http://www1.curriculum.edu.au/ddunits/images/ls1fq2_6.gif"/>
          <p:cNvPicPr/>
          <p:nvPr/>
        </p:nvPicPr>
        <p:blipFill>
          <a:blip r:embed="rId1"/>
          <a:stretch/>
        </p:blipFill>
        <p:spPr>
          <a:xfrm>
            <a:off x="1676520" y="3048120"/>
            <a:ext cx="5767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2T17:15:14Z</dcterms:modified>
  <cp:revision>93</cp:revision>
  <dc:subject/>
  <dc:title>Ancient Greece</dc:title>
</cp:coreProperties>
</file>